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E63-EA3D-40B7-B979-2FB9328F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089-F9FF-4520-BA06-25B9C0CD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727EA-5234-42E0-97E4-67DFC8B0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B50C2-883D-4B89-82F7-7DA5D94C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DBDB5-166C-4524-8DA9-F27BEC9C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EB09F-7AE2-466B-A81B-693727B2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B7EA9-FC6B-40DD-BE43-8010F9F7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CE5B6-987E-49B5-8B90-70C3677D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3BB88-858E-4509-AEE7-79747B45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72065-37D7-475D-A768-D83C080A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E754D-F37B-4765-9087-C11D0875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97C93-EF00-427E-B1CE-2AB278FF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E5F-DD0C-482C-8C23-5FF827C3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4BCCA-8B92-4389-8BED-F20BEBCA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792ED-F4A7-40F0-AE9F-B4C8B873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9BAB0-29B7-4D18-A5DD-CED47A59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49FC6-4E21-4755-A942-19300157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E8CF4-2DF1-4979-9F53-9734B8D1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5C6BF-5A0D-4651-B9AE-53204361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54039-BAEE-4D71-ACCE-B7B09240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CB983-F173-44D8-8D26-53DFFD94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C35E2-7FCA-404E-91FD-C607A2EC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49585-787B-40FE-ADCA-729F9578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F95-C9CC-4D32-999C-38192A2D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3FFA8-DA5B-4008-B52D-72E946C3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C239F-A21E-423C-8CE3-F8C44759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6CD98-C667-4F77-8682-2F58B2B4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34F5A-67E8-4C2E-BF0F-F56BE6D8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7D88E-6E31-4845-9B71-796FD83C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C0B87-C7E7-4D37-A5ED-F3B86119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007D3-0979-4B48-BC04-77EDC00F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3050-4527-4CC4-BF52-4C72A613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99773-9008-4684-B502-97B4DE04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60CF7-ABE3-4DDB-8F02-C0C5022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F7CF-1CB4-49D4-86AE-5E76CD6F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7A8A1-81F8-433C-97BF-A42800F7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9646D-AE23-4ADF-B58D-9F49CCC4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9C21F-2E46-482F-9F03-36625F3E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51F03-CA79-41C1-94D6-22C57052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A8E6B-7709-4139-9AE4-0A04534B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8FB95-8F7B-47BB-8078-53EEE1F2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60EA6-DEBB-47CE-84D1-6BCA2E4B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19460-4413-4799-ACF0-E16318DC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DFF06-3E32-4467-8E46-75DC6C29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38678-ADCA-4D6B-9B8A-F42525EB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CC6C-E4C7-4817-8B63-B0A3E15B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49B63-0A13-4796-AA9D-66668385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FFAF3-E9C5-4B45-9FFC-29FC6A15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F153C-D76D-4740-A417-2318A903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E908A-9A66-4D70-A2B9-5C578FA4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9A2B2-EC6D-497E-A63C-81B5A7F1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D1863-451E-4C45-AFB8-CB03697D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80F6F-A630-4800-AC09-B7BF207C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9C6F2-0A53-4D18-94C1-639A345C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6AB40-C863-4D44-8E09-5693A1D6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2B912-A60B-464E-BB8A-3E1BA59C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EFD5-6C93-435A-B23C-0B1EEFF3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1C885-33D7-431F-9A1C-95FE984E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04AEC-49DF-4D29-B1E0-55BCCD79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C867C-AA8D-497B-831D-871DE6A6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696CF-061B-47D6-9106-879189F4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FB0FF-1766-4A8E-81CE-C84E64BE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C3022-D965-4422-8210-7785793A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8C428-950C-407A-8D47-044F65B8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C2AC1-76B2-4195-A380-C7446B49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D8BE1-53F1-4346-A12E-25BCCDC9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79B8C-786F-49F2-8C8E-98E542A2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1A31-7911-4350-AE13-31E7C419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CF8E4-416D-43A0-B051-A4532917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5061C-99F0-4C82-8181-6D07DB6E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C4624-6A80-40DB-8A40-8BF08A0A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39AA0-4CDC-452A-84AC-8558B38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B4856-0BD0-4BF8-915B-788A1D1F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38F8A-ABFF-43C4-AE79-C00D2B73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99371-CCFA-4F04-9597-A3E7F1F5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EF715-BA18-4F4B-BC9C-E2F84078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3BD06-5027-4757-B563-AA16EE13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419F1-8211-4506-94F4-462A7C53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FAA4-E944-4E9B-A09F-1FFDC908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7B470-BD99-4894-9FF4-6F062447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B1C0C-B697-4DC8-A8E9-FDE54E30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2E0B7-EDA4-4F3B-9935-D3ACFC15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3D9A6-ED16-4AFC-AAE0-3F3D955F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5E654-9A07-4A77-81C4-4B423F87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B9828-9418-440A-B98E-14859B7C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44FB2-374F-48D0-88FD-E1FE702D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0B6D0-75EE-41DF-B2CE-CAFB7FDD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4D1F7-8276-4AE3-895C-954DA8D9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0CD682-A4CF-477A-B83C-9D7A19F6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AC6F-A2F9-4893-88CD-43201AF9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EDB81-BB41-4D35-9346-8622080A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5E29F-92C4-4020-9088-D6920C9D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A220B-6740-4CCC-B855-B3B47008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01F93-8998-499C-B9EB-EDD40E04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7FB52-FAF3-41FF-9159-96D5CDC6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2EA6B-4588-453A-9150-00190CD6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3B3795-2C13-4DB3-990D-51697E06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C5E0A-9585-42BE-8C15-10CE1ADA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3E180-8CF4-4EDB-B5B5-A36CD3DD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CBC84-A43F-4019-9AC9-3131728C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BAAF-D2ED-4330-A403-9ABC15F4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914AE-84E5-49C2-94C4-B78D49AC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68B4FF-97E5-474F-940F-FA465E94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28E88-9E2D-49BA-AFD8-038C0E5F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BEE62-D503-4956-9923-6FCD29F0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D2672-3630-47CD-AB8A-7BE7568C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3504AA-FC0E-4B72-B11D-7AE84C60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0F71B-D937-44B9-9DFA-AC42C742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5D131-89D1-4154-8E98-A3283A85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9B669-3715-4EF9-947E-4BA95264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8A3A0-2459-4964-B155-0D05E39D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ADC-64A0-44C5-A467-DE0808FB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94C4-2F41-43CB-9591-FFE350EB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A3908-2033-4488-A734-20B3B320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F9E11-CABF-4BA7-A4D1-E41140AC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468C6-8AF0-4FE3-9B72-D2971305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AABA9-D35E-40CA-AECC-6D6BDEA1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27AFB-81C5-4454-9FBF-47B30C3D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7A8309-3BD6-4F4B-947E-FBF3D203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6F640E-98E8-4CBB-A511-32035713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C5437-CE2A-495A-8958-041F8432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C80A82-42D9-4C11-9B0C-9DA8CDC3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FC5BA8-EC94-4653-9754-97F4058B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762E-A6C6-47E0-BD3B-6F9ABB42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90FBD-07FF-463A-8B32-D1B11F4B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EEED96-86A5-4706-938B-6F52992E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D472F0-C70F-4051-8328-5C2EE0AE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C2ED7-E1E0-443C-9C22-1B2576AF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DB09BF-F3FA-42F1-B3F8-E6CF5DF3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6233C2-DB0A-4EBF-9E95-B2471501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19704C-927D-463E-A09B-8E7BC8E4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6F93D7-8E67-4107-8B33-600600C2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ADE571-17AD-4912-98A4-E8F13045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E6CCE-D666-4ACB-980B-BC819E03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1FD6-D758-454D-A45A-3B30B76D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2AEA3-827D-4A5C-8448-D93A053A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98D3A5-9199-421B-A6EE-D010DEDE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796D38-56FD-46EA-A50A-335DFCCC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1E389-BCA0-46BB-A0B6-F2AC6B1D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E59B85-7148-4FD1-A8C2-B0D816FA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460423-2CCE-4C5C-B301-79C207A0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664C4B-DA91-4DBF-BB36-ABFD9920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E0143-F9C4-46C3-BE34-567273CA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F9BF2-EEA5-4E1D-B5A7-DD0AAF88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1D1A56-7758-4749-8FC0-188D0E95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55AB-DDCE-4799-AA2E-8FD7E164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B03A0C-70BE-4202-89B3-0FB79427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17BF7F-266D-410C-9EE6-4F85018D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6F224-4D67-4C99-9A31-8B2E88B4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09BA5E-A403-4316-89A9-DDAF1656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7C0FDD-BF60-4298-8520-444ABD85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7230EB-A290-43D5-A907-6383055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028201-A9E2-4879-AFCB-F44CA3BB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2B664-A707-4D5B-8DE6-3424A8B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295850-8087-40AF-8809-CB0BE83C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8D317-E841-4E84-9988-E7B9A5F0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38DB-6A9E-4475-BE3C-183F3FB0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3F132E-A846-4D2C-A1FB-19D7107E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84D9FF-7258-4E3C-B688-2C53AEB6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E768DF-1988-4BE8-98BA-4BF812FC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979AB-45E4-4297-AFB2-845FF09C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AE54E-06F2-4DC7-A59A-5D13A36B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81FE4A-383C-498C-A1A6-927FE7DF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72E9BD-3ED0-485B-9FD4-600F25FD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535A0D-C027-4113-A20C-1394521B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0E1B57-6EDF-4C83-BD1D-E6E81948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3AEEF1-C54B-4AAA-BE2A-16077382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6F2C-F1B1-41AC-82B7-D15812D1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5E7126-065B-4AFD-BCAC-EC117339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CD602-65B0-4EB2-A237-F5B152CD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3E8437-C52E-4511-A864-B340C625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9EECDF-43E5-49F2-88D5-1E47C85C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8B0FF0-ACD5-4FE8-84EF-58B51A35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B05A64-66EA-43B6-A8BC-B089B37B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4BE3A7-3EFC-40DD-81A5-C09EEAB2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5EEBA4-6849-4F8F-9086-C65B250E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852B53-74DE-4987-87F9-638CD2DB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B29C02-A8E2-4CCB-AC49-6EF46A1C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A320-313F-47C6-A2C9-C78CC9A3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9E6A06-E9BA-48E8-8865-78D2CCAC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964399-C1B4-49E3-A90D-143DC8A0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102899-FE39-434F-BA30-719C9E93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FC26E4-46C2-4BF3-8067-C145B828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F4611B-CA8A-4E4E-849C-B69891A1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892F8-CCEA-4C38-8018-FC69420B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7868-9978-49C5-B51D-F6C21F07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15FB-3E0B-45C5-9FB8-820E060D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515-C608-4981-A1D8-1337107F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D225-3686-47B8-B578-7B1E0D33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1FF3-C5BD-4CD1-9AAC-44048631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8F206-191D-4DFC-AAE9-3DE648A0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889E-4B0B-4B5C-9976-10BE4C00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D3DCA-8A4E-4CA1-BE6D-659A2F14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08DEC-E329-4DC2-BB50-BBE7D9A9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DBA6-C314-46E9-AB22-5665A1D1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5056C-5F41-4908-A7BA-78F26E56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6135A-8889-4B47-A054-ECD8B38F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F438B-DBBF-4686-908C-85E18184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5FA-C48F-4181-B327-C929B6D5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BD82-61F0-4C4A-BB43-FFAD2C9A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E644-0A7F-4B55-8531-C9F0D345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275B-2C60-4118-BEB1-7C69A304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8803-40A3-4A02-ADFF-38B20B7F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4A51-2DDA-4A86-9466-EBFA24A9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64A8A-0FF0-421D-AD6E-A6A74D27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E2BE0-8DFB-4286-A5DD-5E7FC729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504FC-9F8E-400D-9309-1787EC36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5484E-B385-4C89-8B90-B5B7A8D2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0B6BA-69D4-478C-A119-11448005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65F-ED87-44A2-8D43-4D0E1A4C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00022-E8F6-46B3-A6DC-D7B47CE7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C94D1-30C4-476A-9DD3-0D24D5F1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3A908-C729-4E2E-A0A0-47ECA7F7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EFAD9-D7FB-40D2-86A5-0CA46827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3E045-A07A-4D76-BD83-19196318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9F0CE-7334-44BF-95D1-3321A380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7F66A-24AA-4AED-BF7C-8AF8687F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BFA6E-BA08-453A-B3EE-9F403BA3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02BEB-DA9A-4CF1-AD75-52D0179F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21802-6271-46F5-B6A1-C0305917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5B0-6944-4210-BA1D-B332CAE5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17EB4-33B0-4E6A-A476-5A55F3D0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9FFEB-4CE0-4AB2-9566-8452D12E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FD8B0-CD9F-47CC-93AB-3BF9E625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CCB3B-A00E-45BC-8600-FFA92984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C3D49-3CC1-4694-AE06-6453D32A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DD230-4C78-4FC8-9E51-88DD066E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07FD6-5107-4E6B-B5E8-BB0F84E3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4D6BD-37CF-4A2F-B0EA-3D7FE18E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F5C62-51D1-4064-8771-7848AE42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7D98D-B915-4534-8867-CB7D7A3C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B37-D3E0-4A67-9750-75C75DE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4FD69-DBF0-4781-872D-AF003D7F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CBE55-95C2-4197-B7B0-9FD48A49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B76AA-28F3-49F2-9ED0-E6C50F7F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2ED52-6255-431B-A708-6E7C15D9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BCA9A-F164-4EEC-A763-728AD51B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AB977-02C6-4691-960A-F5312592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5A1B9-5D5C-4312-9162-27A76849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773D7-3377-487F-A15B-92AF9B21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CDB45-50F1-44F2-AC7E-2ED7E5F1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8F4E0-5B8F-4D11-8FB3-CA5FDAC6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7A7-F988-4F05-8B12-A172D4D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AA637-F82A-4D8C-B8EA-DADA0297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1D383-320C-4CE5-8E9E-0783C565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5B24F-747B-431E-B38B-6F7F5026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B6443-C4EB-4445-A961-9D167598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CE44F-7792-45B8-B1F4-0B502E20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19AA5-C18E-41E8-A232-29196731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BF81D-FE11-4E2D-BFD6-65D41AF6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35DE8-5F9C-4CBA-9AD7-9855C923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499B5-2B57-45B8-91D0-76BFDAE9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C946E-6EF6-488A-B785-2EC088F4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582-A8AA-4850-9CF9-BF9B8883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114BB-CA33-45C0-A362-8AE044D8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16254-8C4A-475C-941E-320C3F2B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7DC3F-D090-49C2-8AFA-B72A4944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23DB4-A471-42D4-8F7A-F74DE907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04805-5CB3-44D3-B2C2-134D9207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3CECD-87EA-4A91-A021-6D44E185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CA416-A29C-42CB-8496-4AAC990B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C2B5C-0DF1-4F55-B43B-1DD30761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7E87F-A189-4781-8924-3FEB5745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B13EE-82FE-41F9-922F-8EEB9C66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78A3-F375-4CF3-A413-0A9E8D13F0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403A-C19D-423C-A83B-CAE923B14E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9AD8-F508-4240-B7CA-D3282C0C0A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208F-BD43-4CB7-99BB-7AAE124479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0EF3-15E4-4DEB-BDBB-CAD7420BFF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B32D-1590-4D6D-A6F8-C874F2B6F9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5638-BB00-4E2B-8EB2-69B9CE2919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D4E2-F55B-4B62-97E5-34C799BD95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753B-26C7-4F22-8636-B10233C93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4697-775D-41DD-BB35-3F5187A1F1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2CCA-8CE6-4BFE-8F83-2292CAE5AE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ADE5-3690-40A4-AE68-AC22C922F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8B33-C248-425D-BD74-0D7AAA33B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3524-AAAA-4FD4-A4E2-945C277A64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50CE-ACB4-42E4-BFA0-3D55296482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67E0-2DA3-43FF-922A-7D1B86720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74AD-7483-43F8-9650-F838340375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47CC-FB00-467C-BFF2-F5AC56C8A1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457A-0158-4815-BDD9-20DF0FCB26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B2F0-8728-4661-B0E1-5B700DDC1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32C3-4C8C-4B32-B908-6001A8A159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618F-F451-42BB-9978-B562FCAA6C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27B6-FF81-4F2E-BAB9-C7318F1963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CADD-8E64-406F-9030-238DEE7E89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F6FD-1AC8-4689-8D2B-258A394CE4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44C4-DDD5-4A1D-8857-25D7139D08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8284-588B-42A7-8338-50F7B767D5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1ACB-C137-428C-982B-AB7567D098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A15E-4838-4B6E-9C9E-9C881030D7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E15-3DE5-4FBC-B366-D0EFE9533E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3961-9F60-4725-A787-C0045213E3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5C96-E97A-4066-94BD-841D383735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9483-8A92-4BAD-AC0E-560DD528CE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35EA-A5DD-4D2D-B301-78DE09567D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391E-9C0B-420F-B3E1-A7B26678FE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6F4B-D9B8-4F2E-A2C3-DD690D99F6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F987-B623-4AD5-B4A4-CECFD0C18D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401C-33EA-41BF-95A7-FD297B938E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F36C-00F4-4D07-BEF8-834DC37FF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9DA5-726F-41B5-9E47-18A51CCF85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3A2C-3A64-4D99-897D-04D16616D3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1324080" y="2595600"/>
            <a:ext cx="64958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324000" y="2104920"/>
            <a:ext cx="8496000" cy="26481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2050920" y="43941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3924360" y="43941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5796000" y="44226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812000" y="439416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7169" descr=""/>
          <p:cNvPicPr/>
          <p:nvPr/>
        </p:nvPicPr>
        <p:blipFill>
          <a:blip r:embed="rId1"/>
          <a:stretch/>
        </p:blipFill>
        <p:spPr>
          <a:xfrm>
            <a:off x="42840" y="966960"/>
            <a:ext cx="9058320" cy="49240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183528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234000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370836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462924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7"/>
          <a:stretch/>
        </p:blipFill>
        <p:spPr>
          <a:xfrm>
            <a:off x="507672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8"/>
          <a:stretch/>
        </p:blipFill>
        <p:spPr>
          <a:xfrm>
            <a:off x="624204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9"/>
          <a:stretch/>
        </p:blipFill>
        <p:spPr>
          <a:xfrm>
            <a:off x="716436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0"/>
          <a:stretch/>
        </p:blipFill>
        <p:spPr>
          <a:xfrm>
            <a:off x="759636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1"/>
          <a:stretch/>
        </p:blipFill>
        <p:spPr>
          <a:xfrm>
            <a:off x="2340000" y="26654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2"/>
          <a:stretch/>
        </p:blipFill>
        <p:spPr>
          <a:xfrm>
            <a:off x="6659640" y="27226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3"/>
          <a:stretch/>
        </p:blipFill>
        <p:spPr>
          <a:xfrm>
            <a:off x="183528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4"/>
          <a:stretch/>
        </p:blipFill>
        <p:spPr>
          <a:xfrm>
            <a:off x="3132000" y="31561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5"/>
          <a:stretch/>
        </p:blipFill>
        <p:spPr>
          <a:xfrm>
            <a:off x="5651640" y="31701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6"/>
          <a:stretch/>
        </p:blipFill>
        <p:spPr>
          <a:xfrm>
            <a:off x="3924360" y="35877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17"/>
          <a:stretch/>
        </p:blipFill>
        <p:spPr>
          <a:xfrm>
            <a:off x="2195640" y="39481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8"/>
          <a:stretch/>
        </p:blipFill>
        <p:spPr>
          <a:xfrm>
            <a:off x="3851280" y="3933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9"/>
          <a:stretch/>
        </p:blipFill>
        <p:spPr>
          <a:xfrm>
            <a:off x="6588000" y="3933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20"/>
          <a:stretch/>
        </p:blipFill>
        <p:spPr>
          <a:xfrm>
            <a:off x="3059280" y="4292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21"/>
          <a:stretch/>
        </p:blipFill>
        <p:spPr>
          <a:xfrm>
            <a:off x="5651640" y="4292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22"/>
          <a:stretch/>
        </p:blipFill>
        <p:spPr>
          <a:xfrm>
            <a:off x="3564000" y="46386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23"/>
          <a:stretch/>
        </p:blipFill>
        <p:spPr>
          <a:xfrm>
            <a:off x="4788000" y="465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24"/>
          <a:stretch/>
        </p:blipFill>
        <p:spPr>
          <a:xfrm>
            <a:off x="1476360" y="55515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25"/>
          <a:stretch/>
        </p:blipFill>
        <p:spPr>
          <a:xfrm>
            <a:off x="2871720" y="55450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26"/>
          <a:stretch/>
        </p:blipFill>
        <p:spPr>
          <a:xfrm>
            <a:off x="3780000" y="55450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27"/>
          <a:stretch/>
        </p:blipFill>
        <p:spPr>
          <a:xfrm>
            <a:off x="5205240" y="555948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28"/>
          <a:stretch/>
        </p:blipFill>
        <p:spPr>
          <a:xfrm>
            <a:off x="6084720" y="5516640"/>
            <a:ext cx="2664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图片 8193" descr=""/>
          <p:cNvPicPr/>
          <p:nvPr/>
        </p:nvPicPr>
        <p:blipFill>
          <a:blip r:embed="rId1"/>
          <a:stretch/>
        </p:blipFill>
        <p:spPr>
          <a:xfrm>
            <a:off x="247680" y="1438200"/>
            <a:ext cx="8648640" cy="398160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2"/>
          <a:stretch/>
        </p:blipFill>
        <p:spPr>
          <a:xfrm>
            <a:off x="4802040" y="2943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3"/>
          <a:stretch/>
        </p:blipFill>
        <p:spPr>
          <a:xfrm>
            <a:off x="7451640" y="3068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4"/>
          <a:stretch/>
        </p:blipFill>
        <p:spPr>
          <a:xfrm>
            <a:off x="4802040" y="35146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5"/>
          <a:stretch/>
        </p:blipFill>
        <p:spPr>
          <a:xfrm>
            <a:off x="7956720" y="35449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6"/>
          <a:stretch/>
        </p:blipFill>
        <p:spPr>
          <a:xfrm>
            <a:off x="1187280" y="4950000"/>
            <a:ext cx="554544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27:0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